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B49B-74E9-4D9A-AB66-63B2B1140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76B5-68B0-4C66-98D1-EF3FB7DC1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B4A4-BD18-4436-8041-CA16E0046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D1EA-916E-4084-AC15-5A721FB1D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667D-EC58-4CAE-B4F6-B3F194C38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F40E-3C8A-4A89-B9AA-1A5F07ADD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D2C2-9E36-4D61-9D01-0A51A981E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2C65-D74A-4F7A-AABA-854D438C7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C618-CD3C-464C-95AD-9B9C1487C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8C16-DD18-49A9-9439-C566A43C6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6D55-96F9-4D90-B49E-22222F7E1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CBA3-86AA-4767-A52B-8E8934A19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69E60-36C8-430A-B130-1A5257E7E1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289 Pane, svoje po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ehnanie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Pane svoje požehnani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v sobotný nám udeľ čas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v tom dni tebou oddeleno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nech Duch Svätý vládne v ná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Nauč chodiť v poslušnost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veri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ť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, prosi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ť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 v úprimnost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všetkých spolu priprav nás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na príchodu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vojho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as.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Posväť srdce, očisť myseľ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nad zlom víťaziť nám daj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keď je smútok, úzkosť v duši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vieru našu podpieraj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Osvieť rozum, daj nám silu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porozumieť tvojmu dielu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všetkých spolu priprav nás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na príchodu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vojho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as.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Pane, tvoje Slovo vzácn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otvára nám spásy zdroj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Ducho svojím pôsob mocn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nech v nás vidieť obraz tvoj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Očisť ústa, otvor uši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zrnu pravdy vzrast daj v duši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všetkých spolu priprav nás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na príchodu </a:t>
            </a: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t</a:t>
            </a: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vojho </a:t>
            </a: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č</a:t>
            </a: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as.</a:t>
            </a: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Daj, nech v svätej horlivosti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kráčame vždy za tebou,</a:t>
            </a:r>
            <a:br>
              <a:rPr sz="4800"/>
            </a:br>
            <a:r>
              <a:rPr b="1" lang="en-US" sz="4700" spc="-1" strike="noStrike">
                <a:solidFill>
                  <a:srgbClr val="66ff33"/>
                </a:solidFill>
                <a:latin typeface="Arial"/>
                <a:ea typeface="Arial"/>
              </a:rPr>
              <a:t>zbav</a:t>
            </a:r>
            <a:r>
              <a:rPr b="1" lang="en-US" sz="3500" spc="-1" strike="noStrike">
                <a:solidFill>
                  <a:srgbClr val="66ff33"/>
                </a:solidFill>
                <a:latin typeface="Arial"/>
                <a:ea typeface="Arial"/>
              </a:rPr>
              <a:t> 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  <a:ea typeface="Arial"/>
              </a:rPr>
              <a:t>nás</a:t>
            </a:r>
            <a:r>
              <a:rPr b="1" lang="en-US" sz="3500" spc="-1" strike="noStrike">
                <a:solidFill>
                  <a:srgbClr val="66ff33"/>
                </a:solidFill>
                <a:latin typeface="Arial"/>
                <a:ea typeface="Arial"/>
              </a:rPr>
              <a:t> 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</a:rPr>
              <a:t>vš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  <a:ea typeface="Arial"/>
              </a:rPr>
              <a:t>etkých</a:t>
            </a:r>
            <a:r>
              <a:rPr b="1" lang="en-US" sz="3500" spc="-1" strike="noStrike">
                <a:solidFill>
                  <a:srgbClr val="66ff33"/>
                </a:solidFill>
                <a:latin typeface="Arial"/>
                <a:ea typeface="Arial"/>
              </a:rPr>
              <a:t> 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  <a:ea typeface="Arial"/>
              </a:rPr>
              <a:t>pochybností</a:t>
            </a:r>
            <a:r>
              <a:rPr b="1" lang="en-US" sz="3600" spc="-1" strike="noStrike">
                <a:solidFill>
                  <a:srgbClr val="66ff33"/>
                </a:solidFill>
                <a:latin typeface="Arial"/>
              </a:rPr>
              <a:t>,</a:t>
            </a:r>
            <a:br>
              <a:rPr sz="36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svieť nám tohto sveta tmou.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Tvojou láskou vykúpených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a pút hriechu pozbavených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všetkých spolu priprav nás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na príchodu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vojho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as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7-07T18:26:06Z</dcterms:modified>
  <cp:revision>22</cp:revision>
  <dc:subject/>
  <dc:title>Je veľký náš Pán, on slávy je Kráľ Nech do všetkých strán  spev vrúcnych znie chvál.</dc:title>
</cp:coreProperties>
</file>